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1.jpeg" ContentType="image/jpeg"/>
  <Override PartName="/ppt/media/image7.wmf" ContentType="image/x-wmf"/>
  <Override PartName="/ppt/media/image6.wmf" ContentType="image/x-wmf"/>
  <Override PartName="/ppt/media/image19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23.png" ContentType="image/png"/>
  <Override PartName="/ppt/media/image13.jpeg" ContentType="image/jpeg"/>
  <Override PartName="/ppt/media/image1.png" ContentType="image/png"/>
  <Override PartName="/ppt/media/image3.jpeg" ContentType="image/jpeg"/>
  <Override PartName="/ppt/media/CAMERA.WAV" ContentType="audio/x-wav"/>
  <Override PartName="/ppt/media/image4.jpeg" ContentType="image/jpe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7274-73DD-4460-8C77-C263281561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F8CA-1D22-4510-BDAD-9D8B8562E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280E-C750-4F91-8E7C-2D862AC283B8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1830-C660-4F9E-8DB6-414C84983E65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ore Americans joined the middle class in the citi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id not forget about the problems of the poor. The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led to an urge to do something about them. This spir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eform was known as progressivism. The main area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 was the urban lower clas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5131-2D3C-4029-B266-BAE352B42522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02EA-638B-4D21-B2D3-E73C9CD4A980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f the progressives were from the middle and upp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, born in America, and educated in college. In colle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f them became aware of the problems caused by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ization of the work force. Students felt maybe th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do something about the problems instead of just enjoy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own li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ge women were especially interested in the re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of past and present. They saw reform as the only w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ould stop the evils they saw around them. They w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in fields such as medicine, psychology, and social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woman, Ella Flagg Young, became Chicago’s first wom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intendent of schools and fought to raise teachers’ sala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woman, Rheta Childe Dorr, wrote a book called W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ht Million Women Want . This book told what women could 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reform effort. All kinds of women’s groups became activ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the General Federation of Women’s Clubs and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Association of Colored Wom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6672-C140-42DD-90C7-166496DA254E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1967-A6AF-4823-82DC-AE220FFC52D2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00 most workplaces were hard places to be employed.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day was 10 hours long. For that 10 hours the work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ner $1.50. Women and children had even more difficul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earned even less than $1.50. Sometimes they w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ished for working too fast to try to earn more mone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were put to work so early they could not attend schoo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never learned to read or write. Bosses might throw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ir faces to keep them awake. Florence Kelley was a reformer who worked against chi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ment. She was successful in many states. Hours w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for children. Some areas passed laws saying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had to learn reading and writing before being sent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. However, many times these laws were not enforced ve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 Kelley and other reformers also fought for higher wages for all workers. The first minimum-wage law was passed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achusetts in 19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E8A4-43A6-4709-8F38-400EB6DBE9E7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F4F4-7607-4B2F-A823-5FEE36D246F9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leaders often fought back at the new reform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 through the courts. The owners claimed that being for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un their commerce a certain way meant they were be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ived of their property, an act forbidden by the Fourteen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ndment. The Supreme Court often agreed with them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ed some of the reform laws unconstitutional. Als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BB19-7DAE-42DA-A511-351406CF2B83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F0D1-2C95-4053-8247-407FFC1D1356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nwhite people had a whole other set of problems. Th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hite progressive reformers were basically uninterested i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nwhites or even prejudiced against them. Leaders and refor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roups emerged from within the African American and America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ian communities. A very influential African America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former was W. E. B. Du Bois. He was the first African America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earn a degree from Harvard University. He believed i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llege education or vocational training for African American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, with some other progressives, was very influential i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lping to form an important group to end racial discrimination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s was the National Association for the Advancement of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lored People (NAACP). Another group, the National Urba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eague, had the same goal and also tried to get bett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pportunities and housing for African American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merican Indians faced the problem of losing their land t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hite land developers and then going into poverty. They wer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so torn between the Indian and white culture. Som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gressives began to help them stop the theft of their land an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ep the reservation system longer. A group of middle-clas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ian professional people formed the Society of America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ians to deal with their problems. Most of this group wante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completely join white society. Others violently disagreed 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uestions like the tribal organization, Indian civil rights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ducation for Indians, and others. The society grew weak fro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s fighting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998D-2881-46AB-86C3-05F9F07E80A7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C0D0-931A-405B-A82D-BB1D214C771B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ckrak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Term coined by TR was a negative one. Based on a literary character who was so busy cleaning and raking up the muck and dirt that he didn't see the good things that were above his hea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incoln Stephens, "The Shame of the Cities" Link between big business and crooked polit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Ida Tarbell, "History of the Standard Oil Company" published in McClure's Magazine. Described the firms cutthroat methods of eliminating compet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Upton Sinclair, "The Jungle" Detailed the lives stockyard workers and the meat packing indus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Jacob Riis, "How The Other Half Lives" A book of photographs about the wretched conditions in the cities and slu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274B-D2DE-46B0-9241-80B2FA2E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460E-58F8-494D-8BFA-FDDB67EA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8121-D64D-44C8-8B88-A663E148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7BE7-BF8F-4E96-B60C-D4D20373E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2363-57D8-4A94-A116-05787F967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A946-EFC9-43BC-B20C-119974FC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C7FE-EF8A-4190-A2B2-2C699D23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005B-B6A9-4A70-9D17-88530D8F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5DC2-DCC4-49F7-A096-0E2A3B99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3987-43C6-4349-A721-08704AFD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96DB-1F17-4408-8834-A9AB3E7F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EA88-8AA0-41A7-8715-ED106B58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DA02-2512-46C0-9BCA-1377C4FF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25AF-6AFD-43E5-8D5C-6AEB0986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B394-83D1-4D30-A02E-A6212FA9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5EFE-7205-4F1C-8A83-D8B979D8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9234-FF10-4E55-9F7C-F197C8E40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588E-CC6E-4F77-B42B-C2A3AFB4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5FBE-2CEE-40E9-9C50-CC2B2799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C14D-75F1-43FE-9AE6-5FC23E5D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1BFE-32A4-42F0-9EC8-645DDF7C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D93F-24C6-424E-BD97-E59D18B0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38CF-8A76-4E25-BC2D-6DADF62B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7292-8644-48BA-A5C8-CBF8143A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5480" cy="6018120"/>
          </a:xfrm>
          <a:prstGeom prst="pie">
            <a:avLst/>
          </a:pr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1F55-01F6-429A-ADFE-E3E66CEB87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5480" cy="6018120"/>
          </a:xfrm>
          <a:prstGeom prst="pie">
            <a:avLst/>
          </a:pr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B203-5B84-40EA-8C2F-2EFD61999B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94" name="Picture 4" descr="INTRO#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WordArt 8"/>
          <p:cNvSpPr txBox="1"/>
          <p:nvPr/>
        </p:nvSpPr>
        <p:spPr>
          <a:xfrm>
            <a:off x="2895480" y="304920"/>
            <a:ext cx="3657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Progressivism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pton Sinclair / </a:t>
            </a:r>
            <a:r>
              <a:rPr b="1" lang="en-US" sz="4800" spc="-1" strike="noStrike" u="sng">
                <a:solidFill>
                  <a:srgbClr val="336699"/>
                </a:solidFill>
                <a:uFillTx/>
                <a:latin typeface="Arial Narrow"/>
              </a:rPr>
              <a:t>The Jung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40" name="Picture 3" descr="the jungle"/>
          <p:cNvPicPr/>
          <p:nvPr/>
        </p:nvPicPr>
        <p:blipFill>
          <a:blip r:embed="rId1"/>
          <a:stretch/>
        </p:blipFill>
        <p:spPr>
          <a:xfrm>
            <a:off x="533520" y="1676520"/>
            <a:ext cx="3652560" cy="48765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4"/>
          <p:cNvSpPr/>
          <p:nvPr/>
        </p:nvSpPr>
        <p:spPr>
          <a:xfrm>
            <a:off x="4343400" y="2666880"/>
            <a:ext cx="457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1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Upton Sinclair- book deals with meat-packing industry in Chicago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1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I aimed at the public’s heart and by accident I hit their stomach”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1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Pure Food and Drug Act and the Meat Inspection Act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42" name="Picture 5" descr="SIN"/>
          <p:cNvPicPr/>
          <p:nvPr/>
        </p:nvPicPr>
        <p:blipFill>
          <a:blip r:embed="rId2"/>
          <a:stretch/>
        </p:blipFill>
        <p:spPr>
          <a:xfrm>
            <a:off x="5334120" y="152280"/>
            <a:ext cx="335268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191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rogressive issu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66880" y="1219320"/>
            <a:ext cx="609624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form of industrial practic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nd to child labor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form of electoral system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ocial justic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2666880" y="3048120"/>
            <a:ext cx="6096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rogressive views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2666880" y="3886200"/>
            <a:ext cx="60962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dustrial society exploited the weak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overnment should use its powers to promote social welfare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rivate citizens bear a social responsibility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00" name="Picture 8" descr="nara_childlaborer"/>
          <p:cNvPicPr/>
          <p:nvPr/>
        </p:nvPicPr>
        <p:blipFill>
          <a:blip r:embed="rId1"/>
          <a:stretch/>
        </p:blipFill>
        <p:spPr>
          <a:xfrm>
            <a:off x="0" y="2895480"/>
            <a:ext cx="2666880" cy="1887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Trusts"/>
          <p:cNvPicPr/>
          <p:nvPr/>
        </p:nvPicPr>
        <p:blipFill>
          <a:blip r:embed="rId2"/>
          <a:stretch/>
        </p:blipFill>
        <p:spPr>
          <a:xfrm>
            <a:off x="380880" y="0"/>
            <a:ext cx="2212920" cy="2819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180px-1900_New_York_polling_place"/>
          <p:cNvPicPr/>
          <p:nvPr/>
        </p:nvPicPr>
        <p:blipFill>
          <a:blip r:embed="rId3"/>
          <a:stretch/>
        </p:blipFill>
        <p:spPr>
          <a:xfrm>
            <a:off x="152280" y="4876920"/>
            <a:ext cx="243864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723888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bating the</a:t>
            </a:r>
            <a:r>
              <a:rPr b="1" lang="en-US" sz="48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lls of socie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7920" y="1828800"/>
            <a:ext cx="62485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safe working condition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ild labor, long hours- in 1900 the average laborer worked over 10 hours a day, 6 days a week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owded cities, sanitation problem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ap between rich and poor- graduated income tax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80880" y="1371600"/>
          <a:ext cx="198612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19861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33520" y="4724280"/>
          <a:ext cx="1773000" cy="184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724280"/>
                    <a:ext cx="177300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3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3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3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3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0560" y="456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Arial Narrow"/>
              </a:rPr>
              <a:t>Who were these reformers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iddle and upper class- 750,000 in 1870 to around 10 million by 1910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Native bor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ollege educate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Wome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rogressive journalists-muckrackers helped spread the reform messag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relentless on their assaults on social evil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09480" y="1600200"/>
          <a:ext cx="1838520" cy="13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183852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0" y="3505320"/>
          <a:ext cx="3513240" cy="335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505320"/>
                    <a:ext cx="35132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orkplace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16" name="Picture 6" descr="Child Labor in Textile Factory"/>
          <p:cNvPicPr/>
          <p:nvPr/>
        </p:nvPicPr>
        <p:blipFill>
          <a:blip r:embed="rId1"/>
          <a:stretch/>
        </p:blipFill>
        <p:spPr>
          <a:xfrm>
            <a:off x="0" y="1523880"/>
            <a:ext cx="3657600" cy="2724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Hine56K"/>
          <p:cNvPicPr/>
          <p:nvPr/>
        </p:nvPicPr>
        <p:blipFill>
          <a:blip r:embed="rId2"/>
          <a:stretch/>
        </p:blipFill>
        <p:spPr>
          <a:xfrm>
            <a:off x="5867280" y="4419720"/>
            <a:ext cx="3043440" cy="2298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april%2022%2006%20image-721152"/>
          <p:cNvPicPr/>
          <p:nvPr/>
        </p:nvPicPr>
        <p:blipFill>
          <a:blip r:embed="rId3"/>
          <a:stretch/>
        </p:blipFill>
        <p:spPr>
          <a:xfrm>
            <a:off x="228600" y="4059360"/>
            <a:ext cx="3581280" cy="2798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istockphoto_45305_nickel_no_shadow"/>
          <p:cNvPicPr/>
          <p:nvPr/>
        </p:nvPicPr>
        <p:blipFill>
          <a:blip r:embed="rId4"/>
          <a:stretch/>
        </p:blipFill>
        <p:spPr>
          <a:xfrm>
            <a:off x="6477120" y="152280"/>
            <a:ext cx="3276360" cy="2621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US_Dime_front"/>
          <p:cNvPicPr/>
          <p:nvPr/>
        </p:nvPicPr>
        <p:blipFill>
          <a:blip r:embed="rId5"/>
          <a:stretch/>
        </p:blipFill>
        <p:spPr>
          <a:xfrm>
            <a:off x="6324480" y="228600"/>
            <a:ext cx="1211400" cy="12193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86200" y="1371600"/>
            <a:ext cx="50292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hild labor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ow wages for wome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ong working hour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angerous working condition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o minimum wag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hild working in mill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78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rogressives seek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overnment reform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73"/>
                </a:solidFill>
                <a:latin typeface="Arial"/>
              </a:rPr>
              <a:t>check on corporate power- break up bad trust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73"/>
                </a:solidFill>
                <a:latin typeface="Arial"/>
              </a:rPr>
              <a:t>more democracy- suffrage for wome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73"/>
                </a:solidFill>
                <a:latin typeface="Arial"/>
              </a:rPr>
              <a:t>cleaned up cities-better citizen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73"/>
                </a:solidFill>
                <a:latin typeface="Arial"/>
              </a:rPr>
              <a:t>enlarging function of government to include housing standards, public health and city plannin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5" name="Picture 4" descr="FOREST"/>
          <p:cNvPicPr/>
          <p:nvPr/>
        </p:nvPicPr>
        <p:blipFill>
          <a:blip r:embed="rId1"/>
          <a:stretch/>
        </p:blipFill>
        <p:spPr>
          <a:xfrm>
            <a:off x="3962520" y="1752480"/>
            <a:ext cx="5181480" cy="495324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6"/>
          <p:cNvSpPr/>
          <p:nvPr/>
        </p:nvSpPr>
        <p:spPr>
          <a:xfrm>
            <a:off x="6172200" y="2666880"/>
            <a:ext cx="76320" cy="76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3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3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42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merican India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742840" y="1143000"/>
            <a:ext cx="60958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rmed the Society of American Indians to address problems and publicize accomplishments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743200" y="281952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frican Americans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2819520" y="3809880"/>
            <a:ext cx="6095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rmed the NAACP to work through the courts for civil right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rmed the Urban League to fight for racial equality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32" name="Picture 8" descr="NAW11"/>
          <p:cNvPicPr/>
          <p:nvPr/>
        </p:nvPicPr>
        <p:blipFill>
          <a:blip r:embed="rId1"/>
          <a:stretch/>
        </p:blipFill>
        <p:spPr>
          <a:xfrm>
            <a:off x="0" y="609480"/>
            <a:ext cx="2819520" cy="2322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NAACP"/>
          <p:cNvPicPr/>
          <p:nvPr/>
        </p:nvPicPr>
        <p:blipFill>
          <a:blip r:embed="rId2"/>
          <a:stretch/>
        </p:blipFill>
        <p:spPr>
          <a:xfrm>
            <a:off x="152280" y="3733920"/>
            <a:ext cx="271476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733560" y="6091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uckraker’s issu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73356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e30"/>
                </a:solidFill>
                <a:latin typeface="Arial"/>
              </a:rPr>
              <a:t>business corrup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e30"/>
                </a:solidFill>
                <a:latin typeface="Arial"/>
              </a:rPr>
              <a:t>corruption in urban politic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e30"/>
                </a:solidFill>
                <a:latin typeface="Arial"/>
              </a:rPr>
              <a:t>social problems such as slums and child labor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e30"/>
                </a:solidFill>
                <a:latin typeface="Arial"/>
              </a:rPr>
              <a:t>racism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6" name="Picture 6" descr="humanjunk"/>
          <p:cNvPicPr/>
          <p:nvPr/>
        </p:nvPicPr>
        <p:blipFill>
          <a:blip r:embed="rId1"/>
          <a:stretch/>
        </p:blipFill>
        <p:spPr>
          <a:xfrm>
            <a:off x="152280" y="457200"/>
            <a:ext cx="3560760" cy="6019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RiisPic"/>
          <p:cNvPicPr/>
          <p:nvPr/>
        </p:nvPicPr>
        <p:blipFill>
          <a:blip r:embed="rId2"/>
          <a:stretch/>
        </p:blipFill>
        <p:spPr>
          <a:xfrm>
            <a:off x="6781680" y="3962520"/>
            <a:ext cx="2129040" cy="2895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TheJimCrowLaws-Front"/>
          <p:cNvPicPr/>
          <p:nvPr/>
        </p:nvPicPr>
        <p:blipFill>
          <a:blip r:embed="rId3"/>
          <a:stretch/>
        </p:blipFill>
        <p:spPr>
          <a:xfrm>
            <a:off x="4114800" y="4484520"/>
            <a:ext cx="205740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4T13:26:59Z</dcterms:created>
  <dc:creator>Joseph F. DeMarco</dc:creator>
  <dc:description/>
  <dc:language>en-US</dc:language>
  <cp:lastModifiedBy>Student</cp:lastModifiedBy>
  <dcterms:modified xsi:type="dcterms:W3CDTF">2011-05-04T15:00:37Z</dcterms:modified>
  <cp:revision>37</cp:revision>
  <dc:subject/>
  <dc:title>Progressivis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79305790</vt:r8>
  </property>
  <property fmtid="{D5CDD505-2E9C-101B-9397-08002B2CF9AE}" pid="3" name="_AuthorEmail">
    <vt:lpwstr>drodman@eustace.org</vt:lpwstr>
  </property>
  <property fmtid="{D5CDD505-2E9C-101B-9397-08002B2CF9AE}" pid="4" name="_AuthorEmailDisplayName">
    <vt:lpwstr>Doug Rodman</vt:lpwstr>
  </property>
  <property fmtid="{D5CDD505-2E9C-101B-9397-08002B2CF9AE}" pid="5" name="_EmailSubject">
    <vt:lpwstr>Chapter 18 Large Group</vt:lpwstr>
  </property>
</Properties>
</file>